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CC7D-BDE3-4BDA-BD5C-A049662A162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9721-BBFE-4634-8B4E-413ACC8E2E4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4813-7B10-48C7-943D-844BCC6B23C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4B14-802A-43DC-B16A-F21E4261783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FE5C-4DCF-410C-B777-EEE08FAEDE9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4630-2706-4EE9-AFE5-AF07E726E72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EB09-5905-4199-9A37-66405B55AFB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9698-5AAA-4DEB-9FC4-5BFF6A15556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4B6D-EB3B-4F46-9371-7566D3B9302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3ABE-F689-4B17-BCB5-B1A34F74B99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DF21-4661-47F8-AC87-9F51172A787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DB1E-CB57-4D1A-91D8-DFF66F78FB3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588B-81D5-4E40-AADF-4A387D2173F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415A-AB7A-479F-A9B7-2DD68D55A36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4BB2-D99E-46BE-9231-1467F091B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4D72-12AE-44D2-A97F-0630BB0A9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8AEA-E436-496B-AE46-1BFE016D5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F5CD-97A2-4A24-9D40-349DBECF74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1365-B943-460D-9822-2BE5DC7598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F5EE-DA68-47F8-987A-F3D0AE4B9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AA62-9ED2-4751-87C6-B320D2CDD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6FE0-AC4E-4CFA-9872-A35E7403B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9901-A033-43ED-A527-2BAF05BBA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8528-FC70-49CC-AA43-FE779D259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D94F-0250-439B-AB27-D5EC4E197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487D-0429-4BC1-B067-8C9711583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BE99-97BE-428E-84DD-5A5186BB123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2-18T12:10:53Z</dcterms:modified>
  <cp:revision>97</cp:revision>
  <dc:subject/>
  <dc:title>2006년도 식품의약품안전청 공개발표 선정평가    ℹ 사 업 명 :   ℹ 과 제 명 :   ℹ 연 구 비 :   ℹ 신청기관 :   ℹ 주관연구책임자 :</dc:title>
</cp:coreProperties>
</file>